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328-4E66-4169-B1C7-BC39EBD2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023-7A12-4E8B-8505-B0A2D030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74B63-246B-4A28-AC3E-7E8B6610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A816D-8082-4B7E-B2A8-E03AEEE0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6DAAD-3030-4E53-ACED-7790129D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713C6-7714-4176-8B8F-10B377F1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6645F-5C28-4E0A-B68E-A6F67BE8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5E846-E003-4D3A-8909-165D752F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E990A-DB9F-46B4-A00A-047D7E5D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E7B22-2D5C-4E20-BA95-C280B0B2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F63D8-E2A5-4931-9E75-692F7166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EFC29-05CA-4B96-85DD-99898D04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2BA-7969-4287-8AEF-8242A45B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5B0B2-F088-4376-B6AE-92885F38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8EC3A-BFEB-4133-BCC2-43FE7BA5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2F6D5-28F7-4EFF-B8C2-DB482EB4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A1D6A-325A-4D24-AB0D-D2DC67C8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412DD-0FB4-48CB-8EE3-47AF0117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32E43-BF59-4A0F-965C-46B45089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2EEAF-8D49-4B10-A7B5-C546FADB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0F20E-3E29-49CA-B4D2-E449A957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096F1-31AD-49C2-A98F-A5D8D7B0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17718-B30F-4910-9AA8-239F759C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8BF2-D4F0-466E-8069-E384C5D9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AD142-929F-4993-B67D-96B61A3F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0253C-C0CE-40A7-9FDC-8A20E30C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9F5BF-4404-4356-8BEA-F2B1EFB7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5B75A-D664-451F-8FE2-F4683408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75C1E-EDC9-4415-91E8-0F633A55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65A1E-62C3-4121-B693-1A00D4ED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0CC4B-6196-41CE-9501-03674F20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AA84B-289C-4DF5-9D06-C64B145A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C7BA7-7011-42EB-AF31-5F708F82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5BC1B-08E0-46F5-AE93-4DB44C3D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C6E5-EAD7-416E-931D-8E645DA8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F55EB-A6A7-4B67-B40D-BC48C774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27CDC-222B-4367-95BA-3B26B072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8EEAB-4C53-4A08-AAD8-0A77E6D6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7FEDB-5318-4B48-92D5-784558A2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2F223-1793-4F80-9F7F-434D37A8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833F0-54F4-49C8-B091-83EA011E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DC713-B5C1-474C-A511-5DA0E22E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E7A21-B51D-4D03-BF7F-648166A0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08470-9DDF-4410-AA33-6C2B86B8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D5BC4-9B20-428A-BC4F-8DF32602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1CD4-BEE9-41E6-8C3D-ACDB864E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98BBC-6099-4B3D-A41C-66D91859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2149F-0BFA-430F-B169-FDEA17F4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342FB-0373-4DFA-8AE1-F33A057F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54F03-8E81-449B-A630-F954FC21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10FA0-A69C-49B2-A3ED-05F9A900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E7A626-4D05-4720-8714-4C38A810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ED9243-17E2-470C-8E53-39594F1A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22235-51A6-442F-9B8C-A36E529A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9CDFA-4777-48AA-8C1A-53F05538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E2C4C-5026-4943-BD81-3EDE02B7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2F6D-3A71-4673-B642-C25D509A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F4681-48F5-4E72-A401-F568A7BE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2E77C-A6EF-4CAF-A347-3B178E0C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980D5-F26E-454B-AB1D-DB4647B5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019DDD-12EF-436B-BE22-5C198907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7876F-69F6-466F-A7EE-26023AE2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871A9-1B1A-469C-99F0-1CBFA49F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5C461-898F-43BB-B97A-BFB292CC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BD55C6-FFB1-4DD7-9337-3B9BC672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F18765-6E85-4A5A-9FBE-DEAA2A63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5BD77-9C09-43B8-AED3-DD474673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244A-21E1-4CC2-A695-9EAFC7DD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FC11B5-00DB-4BB7-9A0E-9B83EE7F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99ADAB-D0C8-4DA9-94E7-CADECB9A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ADCA2A-0C89-47E5-91B8-1969AAFB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DB1F4-AB10-44FA-9333-B20F33DC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268501-4E97-4E14-A59F-AB78490A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14E13-A47E-4DDA-9F82-C6B9F2F0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85594E-E6D9-4747-8F23-5AADE6DE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A859D-EB05-4826-BE19-26E289EF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6D9030-AD54-423A-8045-3D5761C3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CD1566-8093-42FB-8EF6-4FC04916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4FDB-894A-4565-A99F-77CACD21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00CEAE-9DC2-46AD-B93E-560DF63E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8A2FDF-6F2C-4B32-A4D0-14AD8F95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9BDABD-D988-4A82-8822-F883FADE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239EA-A869-44A5-9F4E-8C8C01D7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1D8410-7FB9-4AD3-9DE0-BE58D2C8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A9A12F-7F92-467F-AA3A-034534AF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F0920E-33DA-49B7-9975-E7E32B42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3932B5-1423-4131-B9FF-E95B6DD8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C10482-5843-45EB-86D6-E207D6FD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02C5C6-9BE7-48DE-B13C-20816766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90B0-8BB3-4B63-BC56-92CDC616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38A51C-697A-4C41-AFAA-235817AE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52AB37-FB12-4BF4-9A53-859AF600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93F99-F193-47D1-880D-37EB3EC2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80CDAB-37E0-4AF1-8727-D8FBCF26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2FB234-A7E1-42DE-81DB-702F88F8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2FCE03-5B45-49C6-B292-E573E151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268F6B-7B9C-49EB-B927-7BC3A73E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BDF53C-443B-4504-A96E-22414706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461A43-0055-4ED4-8C3E-66C9EE5E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3F4551-5288-4A00-A70E-F9BCD413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461A-C3FA-415C-BA49-F3E18411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8C7976-35B2-4004-8255-086EFDB5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2FE6CB-EB4B-4565-A637-90D62353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854C68-97E1-431D-AC56-D2D3E762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302DDE-7754-402C-B8F8-F3F10DBC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49A9FF-2E1F-49B8-82F8-302F00DD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56D5A4-253B-44FC-9E57-19EEBFAC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3A875C-0763-4DCB-AADE-DC1054BC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F4F073-F20B-4024-BCC2-D74C9D72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A32963-4987-4820-81E2-4FF9389C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029D46-03E1-425F-8D10-92611F62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714-6C07-4E8B-88D9-6EEE4B79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D852-FE09-4685-89DC-83371BA8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EFE1AB-38F8-4BE3-92B1-C819E329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03197B-B9E7-4426-9946-675AB108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BB7804-F334-4C28-B78C-05ABFAE2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1E9B31-8944-41E8-A0C9-EB61DE68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B50653-3D0D-4742-8969-53AACA30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020D89-28D7-4FE7-AB8C-FA36AF9D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E68099-8F80-4067-9AF1-D05B5DED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799BA0-6D30-4720-B2F6-9AD91D52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6FD758-8735-4619-BC75-C6C9E17E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7DD700-B9FD-447A-99DA-A41B16F7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95DE-7E03-49C4-A87A-DBA77792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7D0344-04EB-4EC4-90DF-38377542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D9D12A-B9AE-4FFE-913D-46A6FBE0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08989A-7B31-49AA-BA95-8E370F77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6098B9-85ED-43D1-BC8E-274EFA5C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FE5ECE-6122-4EB5-9EAE-94E562E4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25F153-121A-4580-AF92-01AC88CF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01850C-CC63-4196-B6C3-A8905E50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FA370B-B133-4F0C-BC9C-08441F3F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547666-1C24-4D0D-BA60-BB1F9201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592501-48D5-47D1-80E6-AFC06AB2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3A58-A49B-43FE-AE16-94B7B8A6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1379B4-1384-467E-B1B8-F8D8C150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818DEB-F2A5-4682-91CE-F4205874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FBF5D9-42BA-49BD-A69E-775A8B21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A7AAA8-2A03-46A8-8F82-91062840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CC1876-34D7-481F-ABB9-ECA656B2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537EE6-6512-47A6-9257-73216933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30D1A3-48F1-4780-9223-96C896B0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5DB338-2E51-4F5E-AFA7-7A66377C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A2B6B3-5DAC-4AEE-870B-DD671F91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6B4315-F67F-48F0-BEC3-18711919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64CF-FAB2-4C27-B8C3-F5EF71D0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AB3BCB-4D20-430F-A562-D1F0F0DF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3CAC18-EAB5-45BF-9325-DF256489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7A9B85-D7E0-429A-A090-6AAB2E27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9989F8-72A4-4B16-B9A1-D38A90E2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0496E4-D485-452C-B3F1-321B4BD3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0BC5E9-019F-43AF-A557-3A49E521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5335AB-600D-40D8-868A-3CA6DC3C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D9C0F3-CE8F-48E2-A273-6AE332D3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5D451D-527E-4C76-A513-B174F986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51B009-C3B8-4751-8838-92F86BFC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B384-9A17-4982-908B-884F8C4F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24EEBE-14DD-418A-833E-FF18CA4E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748BA1-4795-4974-B3C1-4A6B3691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B15DCD-ED50-4B4B-904F-1772DE96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524B92-7196-4143-866B-CE788384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C05101-56F9-4D58-B4D1-140A3588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D11E69-53FF-4BBF-8393-158EBF2B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56F707-679A-48DF-90D3-843E9244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264C03-856F-40C3-A566-5FE38C24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A6D51B-20E3-4FDD-8AF6-00546195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05690F-A1CC-405D-B7EE-BC773131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0FEFE-DB1E-4BB6-BC7A-3C235140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CD2E10-BA16-459C-A9FA-8E3C6AE7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D17D4B-70E0-46A4-A9D1-9EABE932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4BD298-658E-4721-B4DB-4D8F2D16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845E23-E8E3-42C7-8905-FB1ADA51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0F37C3-939C-4561-B0B4-5A4D3C6B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0413AE-440F-4A9F-9CD3-68888254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7FCEA0-B518-4836-BBBC-0CA065D0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DDB3B5-3837-43F3-BC5B-44DA6803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6B78DD-D633-4AEF-9508-FCEE9F04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9845F8-EE28-4F11-AA79-D5FC8065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92AF2-F680-40C0-BD68-9EFC6EDB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33EE07-DF94-421D-B934-B1183270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958628-22FB-4A48-8EFA-8AEB022E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8E6689-029F-4D11-85AC-870F9EF8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D7C58B-90DD-44AA-92FF-D4725385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8C2CDA-A0F9-4E89-9215-C698C6A2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6AD290-6DE0-4719-BC1E-389AE18A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BBAC66-7EBC-4A5D-8E75-5B043CBA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9B492F-CEA7-48FC-B9D3-FDEE0B0E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1F6D1D-2A3C-426B-B7BE-6BCD5DD4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35B6C0-6B1C-4AF9-9D67-E652F114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98BE0-219F-4F02-B047-328A0E8E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9DBDC8-47C6-4E3D-955B-52A03C95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7D3EF3-786B-4111-9514-0FFC2D58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CBBB15-FDCC-4FDA-A7D5-D326B13B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4A5E2E-1DEC-4C54-B5F6-B96E556A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642952-3FB5-41A2-9C2F-B9040069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BFF6D0-D6DC-416A-869F-82AD8538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762036-4EEF-4E44-95A0-878B5B53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B05407-9F1B-4D5B-B2F6-10647AFC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3AF088-7490-4078-9989-7E17B44E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2B3751-5325-42AE-A850-3AE94117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5F68B-D2D6-4626-BA51-5B58857D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6ACB27-ADF1-4A27-B0DD-D5D83E54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9E3DC3-1491-4A0F-A0A8-3B9FE96A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B2EDCD-7C35-4524-86EB-237026D2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345E10-3297-4D2F-945C-E7E17E64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D3FF44-F8E6-4552-B160-862BB84C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90B388-9896-40F3-988D-E5A2A842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55B550-9FA1-419B-9E3F-ECBF936B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FE7896-A4F5-4B5E-9F0C-6FEBB718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E0075E-4541-4E2A-9B0D-161E2EFB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E11130-37BA-43AA-AC0E-15A42840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52B53-BC29-4CB1-ACAA-6C17D9F9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48F0B8-D6FA-4C16-8548-DA203DFA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B03426-B779-43A2-B65F-724F41B6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C8FD69-0409-40F8-BC2F-4C28E50A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64A329-5E06-4177-8EB2-F8FD700B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418E70-E0DD-425D-B148-1C91D8DC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C6DE72-E6E7-4C1E-88DE-CB69F39E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96CFFD-1B5A-4B52-8B08-596F0034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2EB522-7CCF-4BA5-B6E3-4061B4B1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5B0006-AF8A-4E78-9BEB-B3DCB64A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AF75B7-D091-45D6-A20D-0C48C1FA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7E8-E5BE-469B-AEF4-14B4E40D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D8C26-FE2D-4060-8670-2827DA62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554312-CEE4-413E-81C5-7C0661D9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9E40F2-6A82-4720-852B-21C6925B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36DE7A-C41C-4ADD-ACC7-B2946E62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45BFD9-1ECB-4599-B5AF-C51334FC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4041F1-FC84-40E6-B365-93933460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468654-C0CE-4973-97AA-40D2B411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F810EB-6B16-4D59-87BF-36041C5A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1F0DE8-B692-4232-B1CD-34F13C54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BEA4AB-15A1-4CCC-83F8-FF2F6C5C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73046C-17B7-469A-B9BB-732ADBF0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B4E33-58FF-4209-80B6-B21CE688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255E81-DDEE-487F-844B-471E1A0A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240DDA-42C6-4FF4-BE5F-195403FF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0EDC4C-32AB-4729-913F-A8790DF6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43E000-117B-4DE0-B824-671B919D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F19986-306D-4D4D-9ABC-3649BBB2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957156-6B0C-488E-BA3F-AD45189B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4341D2-6518-478D-820E-E767926D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DBB4EF-5B91-439D-86D6-B07D6D73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C243AD-1955-49EE-95AC-45D0B014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6BD31F-7470-46FF-99F4-9B5F47F6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2FC0F-7F34-42A2-BABE-FFBBC138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867052-1AF2-4DBE-9220-3B013298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B43B14-F48A-484D-A882-3FCB2CB8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DFC041-A2C7-466B-8BB2-9CA173B5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53291E-D564-4A68-988F-E8E9EB18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C29645-73FC-4235-B104-261B5263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AC9E94-EC04-4645-A71D-D603F68D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E72361-C168-4D7A-AEB5-9968B8D9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7224E2-D087-4084-9DBE-EAB52FE2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B8A75A-B11B-4FCF-A979-85AF7651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658E03-AD13-4F7F-9032-F8D13C70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C7070-D97B-407D-A41E-E27101AD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551BAD-C8E8-4C6D-922F-2E2ECC6D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3D2692-428C-4199-A8F5-BC88618E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6A5A60-B69B-4D1E-A0AF-C61B07FC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4E6DC8-CEE7-4710-8EA5-8A4802D9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1D7552-4210-4339-8A45-E10C06E7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1DAE78-C903-4281-B845-5E52EE5E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4FC87F-A356-42BD-A3C5-05039B4F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64ABC4-2B8E-4D3E-A795-0C80BD18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924B50-75FD-452D-B035-06C3C864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DA433A-3F8B-4E20-82CD-AAD2027F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8F3C7-D7EC-4B7D-9C30-9F1ACBA4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132761-E10E-4A85-AB50-AF389A29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DF674D-7222-42F1-94E7-DFDD6841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785002-5DB9-4643-A047-CEA8CDF1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EA689C-42B9-4C89-B44B-58948DCD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81998F-6463-4ADA-9434-5EC7CD20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F448DC-3796-4FDF-A352-DA784552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654F59-B5E7-4A2A-9F4C-BCEAB424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CBEEDB-1945-4F38-9C4D-05507A3C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F68DFC-DC08-42A8-B76D-541299F0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66A16C-6E49-4659-8096-20044699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21BAB-2F51-4050-A54B-E64F7C2A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EE9658-8ECD-49B5-88A6-E0E4DED8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DA6794-8722-4993-A5E9-EFA88E87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1AAC47-B689-47D9-ADA1-DDC668EC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6BD605-2A48-4037-81BB-41BBA2EE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395869-941E-4412-A805-2733B9BA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4E8ECC-CA6E-46AE-8667-14FA1697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BB91BB-45B2-4CAD-BE78-751F89F8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851CFD-9DD8-4281-ABDB-36406EFF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6FE7FE-E4A3-4B44-B552-D5111D33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D58184-91E8-4A6D-80C4-EC535BBD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F984A-81E4-4704-B3B0-55689EF4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9AE46D-92E2-42B5-BE59-D92C026F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53B8CA-3556-4427-B177-60A7E308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6194CA-54A5-439A-8AB9-2E8FBFA5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4D5DB7-4E73-4B78-B2E8-A63A2872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0D8817-814C-4837-B342-59276264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AA30DC-8580-4A02-BFDC-09792FF2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05B1BC-A5E1-4E39-A4F8-B3BED65B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065563-4D45-4589-AE8E-C70BD3BE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8B5CFA-3E53-4320-8EF5-152826EA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571348-8607-42D3-85BB-1C903249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B64B7-58F9-4DE1-BA6F-DD70DE04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5C6450-56BA-41FF-ADCF-8F973049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724F36-8C2F-4B92-AF74-EC59BC28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81DEDF-33F0-445D-8EE3-12160737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E1CB7-6A99-4D39-BFCB-CA5C924F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622EC-0293-498B-8B3F-3A12B0C6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358-6BC8-47AE-910C-CA552CBF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EB3B9-8413-40C2-BA46-4D99261A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EEDEB-2D85-4AC3-B079-56DD5A93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9CF77-9308-45CC-BC23-F76FCF30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B7C37-6458-4AD4-9D48-CB7D22DD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3271A-2842-4820-B1B5-BDAA4CAE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3A457-2B48-4F21-BC92-7327D07E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23655-E8C8-46F2-B8D0-A73E9FB5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76CC8-5FC8-4CB9-A66F-D173842C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8A35F-B32F-481A-862C-957FF52F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50451-58DC-422B-A417-B40286F4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5999-714D-420D-916A-08EDDE9E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FFB28-A46C-4953-93F6-BC5AFECD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636B9-D56B-4C60-AA4D-4979D137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E3720-5715-49CB-8CAC-8C826D73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42245-6565-4D14-9002-886CA54E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E500A-FC66-4D4D-9277-15D11E85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7DB01-CC2E-4AB9-8B4E-3B13C99D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B7CA0-0B90-45BB-92D3-5BC3AE3E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04309-EB55-404A-B288-F12779DA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B6EF9-DAA6-4FB5-8128-01E5821E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DF546-AB51-4E55-94D3-A8840164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51E6-9B0B-40CF-A7F4-FF9782AD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F4D02-D5A3-46A6-9C20-1D16144B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32C89-C7AD-4166-B79D-18AE7FAC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B8244-F76D-493E-9732-DCA87494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D6272-2BCE-43C0-B13B-325D91CF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6382C-D04D-4D28-87C2-1330E19B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01684-5461-4EA0-B790-73BA1E5D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52413-BF81-451D-A747-432223EB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01BC9-2C87-4EE1-801B-9D8EF0A1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38C38-32C6-48E1-AED9-E7F290B6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354C6-547F-4BCF-BF2B-DADAEF91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7733-ECC4-4A62-AA67-8548C8DA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200A5-A071-4977-B795-22ABCF62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B23BC-12B5-4129-B6CD-C8581306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7189D-6BE1-440E-86E0-065E687F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6411E-95DD-4A0D-BCED-2A04223B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B0E5F-7E7E-40B8-BD89-0F5A31E3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EE069-0BAD-46BD-A73B-26AACCD1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0BD5D-EFED-4EAC-AD8C-9D9B220E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C8D69-D69F-41FD-8DFA-D449680C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545C8-426D-46CD-8E2A-AF2D6471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140FC-FBC4-4D45-AA67-D087AED9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D49-D3A0-4B99-89D0-2C48B5EA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5783E-8A98-499E-936F-D86EAE6F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A9389-E076-453F-932F-AD28AD04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E2035-09BA-42F4-9B71-D948BA4D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1D540-22EF-4AB1-950D-C824E5A8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215C8-8B05-4F84-B9F7-1033C692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E7FFA-7A0D-4A8C-A06B-C9ED9036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9AB09-4A7E-4A52-AF32-A75584F2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05AEC-D47B-4370-8CA9-AB13FBA7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811CE-E32A-452E-B0A1-FD34D768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402EE-5693-4ABD-98D9-D077D395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0C1-8CDA-458D-BC08-4DEF806D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C516A-9EE3-4512-884E-E21CB047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DC044-F466-440B-AA90-0A039F1D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EB34D-8A90-41D7-B719-1CD771AD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0C142-590C-46E7-8CE7-4E2C79CE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2E054-6956-4839-BB5F-145D86A5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1A4C8-ADAD-4F4E-A6D3-25869462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7F922-1FC8-4ADF-AFE5-A9354F93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20CA4-F4F2-4A48-A6B8-BD1B9083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3843D-8E74-4A64-8188-3CE419A1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508CA-7813-483D-B64E-B6739235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41DC-DBD8-419B-B8B5-D049E4029D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D569-260B-4A4B-9AE0-6215F53A35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1E2B-C40E-4E6F-9674-487B7088C9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7F9C-DDCD-4A58-A493-A97672CB0C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422B-AF13-4C4B-BAC7-F87821375E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09C2-7F13-459A-B2D6-311FDDB130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D16A-0971-4C97-8E1C-F95379A852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1BB1-699D-43F1-8BD2-FE688DF6B0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219A-1196-4DFA-9E8E-65A4F71FC6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C2F8-A3FF-4754-8A01-D69607FBF5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953B-4695-4671-9E24-34C64FC71F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D45B-96BE-409A-BC32-02FF603BD2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EEE9-C104-4E15-8D63-4491A7224F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E27B-2D9D-40ED-B532-63229CACFF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DC9C-3DDF-439C-B2B2-329560FD29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C060-DD56-45B6-AED5-5B336E5A6C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5758-9F72-41EE-B553-F2EC4A5A0E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73A1-2259-4169-B6B0-83FBFA0F68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6106-27F5-4671-B7C0-B2FCE7F8FD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26D9-B4B9-4627-8F06-2DD5D348E7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3429-A8B3-44C6-AD41-0CC79D3B0F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3A87-429B-4502-98FB-1D71352C1A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DC81-5343-42D5-A696-F23D4821D4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25BD-A2E9-453B-91D0-BAECE32188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AE37-AEAE-4681-8EC9-C62327A701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8E23-4E6B-40C7-90C8-C5B1E51A8C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38F3-F9B5-4BA6-A1C4-D06A250288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6058-3B16-48A1-8453-CFD7A71593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ACAD-5741-4098-B85C-4201002E37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075F-B0EE-418A-AE29-53ABB99B74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03F7-00B3-4D6A-8EC2-21CE36E2CA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3249-F358-4FC1-8780-3AA00E7B8A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2228-6AFB-4606-8D78-FFFCB3FE85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89E2-5C0D-467E-8FB3-9B09C97FCE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7594-0B94-4FF4-9258-D0C516E4DF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9FDA-1CA6-4E55-A608-5CA4669248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671E-5F3D-4160-9A66-2C6DE4D110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7063-0CC6-47C2-812B-D82291E4DB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4B72-A678-4BB9-BB37-AF213251EB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17F4-8FD3-4A75-915E-3AAF42389E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C6D9-863D-41B1-9BF5-E319BBD15E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687B-A0BD-4ED6-868F-0AC0F671E7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0AB8-DE9C-4C62-A1A1-20D3982769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A755-2FFB-4DDC-B7DC-62CCE0F0E9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89CC-7C5F-43FD-9DD6-CCAF210D79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76CD-49E4-43D4-B915-9ED4350841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040C-F110-4864-8B82-F9396377BA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8F96-F327-4B28-8732-AD96CA2996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2AA0-7D87-48C2-A992-C8EDDD5552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661C-5AD0-42C4-8DF0-1E2E0C18D4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2536920" y="1082520"/>
            <a:ext cx="3867120" cy="131472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2879640" y="2989440"/>
            <a:ext cx="3029040" cy="364788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6"/>
          <p:cNvSpPr/>
          <p:nvPr/>
        </p:nvSpPr>
        <p:spPr>
          <a:xfrm>
            <a:off x="3914640" y="5989680"/>
            <a:ext cx="21481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40987"/>
          <p:cNvSpPr/>
          <p:nvPr/>
        </p:nvSpPr>
        <p:spPr>
          <a:xfrm>
            <a:off x="2732040" y="6359400"/>
            <a:ext cx="21477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5" name="图片 132097" descr=""/>
          <p:cNvPicPr/>
          <p:nvPr/>
        </p:nvPicPr>
        <p:blipFill>
          <a:blip r:embed="rId1"/>
          <a:stretch/>
        </p:blipFill>
        <p:spPr>
          <a:xfrm>
            <a:off x="144360" y="852480"/>
            <a:ext cx="8296200" cy="4848120"/>
          </a:xfrm>
          <a:prstGeom prst="rect">
            <a:avLst/>
          </a:prstGeom>
          <a:ln w="0">
            <a:noFill/>
          </a:ln>
        </p:spPr>
      </p:pic>
      <p:sp>
        <p:nvSpPr>
          <p:cNvPr id="1386" name="矩形 132098"/>
          <p:cNvSpPr/>
          <p:nvPr/>
        </p:nvSpPr>
        <p:spPr>
          <a:xfrm>
            <a:off x="841320" y="4602240"/>
            <a:ext cx="762480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矩形 132099"/>
          <p:cNvSpPr/>
          <p:nvPr/>
        </p:nvSpPr>
        <p:spPr>
          <a:xfrm>
            <a:off x="830160" y="5249880"/>
            <a:ext cx="762480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8" name="图片 131073" descr=""/>
          <p:cNvPicPr/>
          <p:nvPr/>
        </p:nvPicPr>
        <p:blipFill>
          <a:blip r:embed="rId1"/>
          <a:stretch/>
        </p:blipFill>
        <p:spPr>
          <a:xfrm>
            <a:off x="687240" y="996840"/>
            <a:ext cx="7439040" cy="2324160"/>
          </a:xfrm>
          <a:prstGeom prst="rect">
            <a:avLst/>
          </a:prstGeom>
          <a:ln w="0">
            <a:noFill/>
          </a:ln>
        </p:spPr>
      </p:pic>
      <p:sp>
        <p:nvSpPr>
          <p:cNvPr id="1389" name="矩形 131074"/>
          <p:cNvSpPr/>
          <p:nvPr/>
        </p:nvSpPr>
        <p:spPr>
          <a:xfrm>
            <a:off x="708120" y="1008000"/>
            <a:ext cx="63388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131075"/>
          <p:cNvSpPr/>
          <p:nvPr/>
        </p:nvSpPr>
        <p:spPr>
          <a:xfrm>
            <a:off x="585720" y="1603440"/>
            <a:ext cx="63388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矩形 131076"/>
          <p:cNvSpPr/>
          <p:nvPr/>
        </p:nvSpPr>
        <p:spPr>
          <a:xfrm>
            <a:off x="544680" y="2230560"/>
            <a:ext cx="80946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矩形 131077"/>
          <p:cNvSpPr/>
          <p:nvPr/>
        </p:nvSpPr>
        <p:spPr>
          <a:xfrm>
            <a:off x="369720" y="2887560"/>
            <a:ext cx="809496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图片 130049" descr=""/>
          <p:cNvPicPr/>
          <p:nvPr/>
        </p:nvPicPr>
        <p:blipFill>
          <a:blip r:embed="rId1"/>
          <a:stretch/>
        </p:blipFill>
        <p:spPr>
          <a:xfrm>
            <a:off x="369720" y="890640"/>
            <a:ext cx="759168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4" name="图片 129025" descr=""/>
          <p:cNvPicPr/>
          <p:nvPr/>
        </p:nvPicPr>
        <p:blipFill>
          <a:blip r:embed="rId1"/>
          <a:stretch/>
        </p:blipFill>
        <p:spPr>
          <a:xfrm>
            <a:off x="774720" y="917640"/>
            <a:ext cx="7543800" cy="4819680"/>
          </a:xfrm>
          <a:prstGeom prst="rect">
            <a:avLst/>
          </a:prstGeom>
          <a:ln w="0">
            <a:noFill/>
          </a:ln>
        </p:spPr>
      </p:pic>
      <p:sp>
        <p:nvSpPr>
          <p:cNvPr id="1395" name="矩形 129026"/>
          <p:cNvSpPr/>
          <p:nvPr/>
        </p:nvSpPr>
        <p:spPr>
          <a:xfrm>
            <a:off x="739800" y="1522440"/>
            <a:ext cx="50338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129027"/>
          <p:cNvSpPr/>
          <p:nvPr/>
        </p:nvSpPr>
        <p:spPr>
          <a:xfrm>
            <a:off x="574560" y="2149560"/>
            <a:ext cx="50342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矩形 129028"/>
          <p:cNvSpPr/>
          <p:nvPr/>
        </p:nvSpPr>
        <p:spPr>
          <a:xfrm>
            <a:off x="677880" y="2755800"/>
            <a:ext cx="78897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129029"/>
          <p:cNvSpPr/>
          <p:nvPr/>
        </p:nvSpPr>
        <p:spPr>
          <a:xfrm>
            <a:off x="533520" y="3382920"/>
            <a:ext cx="78897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矩形 129030"/>
          <p:cNvSpPr/>
          <p:nvPr/>
        </p:nvSpPr>
        <p:spPr>
          <a:xfrm>
            <a:off x="533520" y="4051440"/>
            <a:ext cx="78897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129031"/>
          <p:cNvSpPr/>
          <p:nvPr/>
        </p:nvSpPr>
        <p:spPr>
          <a:xfrm>
            <a:off x="563400" y="4678200"/>
            <a:ext cx="789012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129032"/>
          <p:cNvSpPr/>
          <p:nvPr/>
        </p:nvSpPr>
        <p:spPr>
          <a:xfrm>
            <a:off x="563400" y="5275440"/>
            <a:ext cx="78901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5" name="图片 140289" descr=""/>
          <p:cNvPicPr/>
          <p:nvPr/>
        </p:nvPicPr>
        <p:blipFill>
          <a:blip r:embed="rId1"/>
          <a:stretch/>
        </p:blipFill>
        <p:spPr>
          <a:xfrm>
            <a:off x="357120" y="1054080"/>
            <a:ext cx="8505720" cy="3276720"/>
          </a:xfrm>
          <a:prstGeom prst="rect">
            <a:avLst/>
          </a:prstGeom>
          <a:ln w="0">
            <a:noFill/>
          </a:ln>
        </p:spPr>
      </p:pic>
      <p:sp>
        <p:nvSpPr>
          <p:cNvPr id="1336" name="矩形 140290"/>
          <p:cNvSpPr/>
          <p:nvPr/>
        </p:nvSpPr>
        <p:spPr>
          <a:xfrm>
            <a:off x="6246720" y="1849320"/>
            <a:ext cx="8431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140291"/>
          <p:cNvSpPr/>
          <p:nvPr/>
        </p:nvSpPr>
        <p:spPr>
          <a:xfrm>
            <a:off x="884160" y="2270160"/>
            <a:ext cx="8431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40292"/>
          <p:cNvSpPr/>
          <p:nvPr/>
        </p:nvSpPr>
        <p:spPr>
          <a:xfrm>
            <a:off x="3575160" y="3103560"/>
            <a:ext cx="657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3"/>
          <p:cNvSpPr/>
          <p:nvPr/>
        </p:nvSpPr>
        <p:spPr>
          <a:xfrm>
            <a:off x="6945480" y="3103560"/>
            <a:ext cx="657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4"/>
          <p:cNvSpPr/>
          <p:nvPr/>
        </p:nvSpPr>
        <p:spPr>
          <a:xfrm>
            <a:off x="3000240" y="3535200"/>
            <a:ext cx="657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5"/>
          <p:cNvSpPr/>
          <p:nvPr/>
        </p:nvSpPr>
        <p:spPr>
          <a:xfrm>
            <a:off x="7273800" y="3525840"/>
            <a:ext cx="728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140296"/>
          <p:cNvSpPr/>
          <p:nvPr/>
        </p:nvSpPr>
        <p:spPr>
          <a:xfrm>
            <a:off x="3186000" y="3957480"/>
            <a:ext cx="4431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40297"/>
          <p:cNvSpPr/>
          <p:nvPr/>
        </p:nvSpPr>
        <p:spPr>
          <a:xfrm>
            <a:off x="5251320" y="3957480"/>
            <a:ext cx="4431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4" name="图片 139265" descr=""/>
          <p:cNvPicPr/>
          <p:nvPr/>
        </p:nvPicPr>
        <p:blipFill>
          <a:blip r:embed="rId1"/>
          <a:stretch/>
        </p:blipFill>
        <p:spPr>
          <a:xfrm>
            <a:off x="314280" y="839880"/>
            <a:ext cx="8515440" cy="4543200"/>
          </a:xfrm>
          <a:prstGeom prst="rect">
            <a:avLst/>
          </a:prstGeom>
          <a:ln w="0">
            <a:noFill/>
          </a:ln>
        </p:spPr>
      </p:pic>
      <p:sp>
        <p:nvSpPr>
          <p:cNvPr id="1345" name="矩形 139266"/>
          <p:cNvSpPr/>
          <p:nvPr/>
        </p:nvSpPr>
        <p:spPr>
          <a:xfrm>
            <a:off x="8250120" y="1674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39267"/>
          <p:cNvSpPr/>
          <p:nvPr/>
        </p:nvSpPr>
        <p:spPr>
          <a:xfrm>
            <a:off x="8271000" y="28972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39268"/>
          <p:cNvSpPr/>
          <p:nvPr/>
        </p:nvSpPr>
        <p:spPr>
          <a:xfrm>
            <a:off x="8280360" y="421308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39269"/>
          <p:cNvSpPr/>
          <p:nvPr/>
        </p:nvSpPr>
        <p:spPr>
          <a:xfrm>
            <a:off x="2557440" y="500364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39270"/>
          <p:cNvSpPr/>
          <p:nvPr/>
        </p:nvSpPr>
        <p:spPr>
          <a:xfrm>
            <a:off x="5105520" y="500364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39271"/>
          <p:cNvSpPr/>
          <p:nvPr/>
        </p:nvSpPr>
        <p:spPr>
          <a:xfrm>
            <a:off x="8055000" y="500364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1" name="图片 138241" descr=""/>
          <p:cNvPicPr/>
          <p:nvPr/>
        </p:nvPicPr>
        <p:blipFill>
          <a:blip r:embed="rId1"/>
          <a:stretch/>
        </p:blipFill>
        <p:spPr>
          <a:xfrm>
            <a:off x="458640" y="825480"/>
            <a:ext cx="7743960" cy="2666880"/>
          </a:xfrm>
          <a:prstGeom prst="rect">
            <a:avLst/>
          </a:prstGeom>
          <a:ln w="0">
            <a:noFill/>
          </a:ln>
        </p:spPr>
      </p:pic>
      <p:pic>
        <p:nvPicPr>
          <p:cNvPr id="1352" name="图片 138242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6124320" cy="2057400"/>
          </a:xfrm>
          <a:prstGeom prst="rect">
            <a:avLst/>
          </a:prstGeom>
          <a:ln w="0">
            <a:noFill/>
          </a:ln>
        </p:spPr>
      </p:pic>
      <p:sp>
        <p:nvSpPr>
          <p:cNvPr id="1353" name="矩形 138243"/>
          <p:cNvSpPr/>
          <p:nvPr/>
        </p:nvSpPr>
        <p:spPr>
          <a:xfrm>
            <a:off x="5589720" y="873000"/>
            <a:ext cx="5968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8244"/>
          <p:cNvSpPr/>
          <p:nvPr/>
        </p:nvSpPr>
        <p:spPr>
          <a:xfrm>
            <a:off x="3349800" y="1438200"/>
            <a:ext cx="596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38245"/>
          <p:cNvSpPr/>
          <p:nvPr/>
        </p:nvSpPr>
        <p:spPr>
          <a:xfrm>
            <a:off x="7202520" y="1438200"/>
            <a:ext cx="596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8246"/>
          <p:cNvSpPr/>
          <p:nvPr/>
        </p:nvSpPr>
        <p:spPr>
          <a:xfrm>
            <a:off x="668160" y="2711520"/>
            <a:ext cx="25592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8247"/>
          <p:cNvSpPr/>
          <p:nvPr/>
        </p:nvSpPr>
        <p:spPr>
          <a:xfrm>
            <a:off x="638280" y="3203640"/>
            <a:ext cx="2558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8248"/>
          <p:cNvSpPr/>
          <p:nvPr/>
        </p:nvSpPr>
        <p:spPr>
          <a:xfrm>
            <a:off x="4551480" y="2730600"/>
            <a:ext cx="2558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8249"/>
          <p:cNvSpPr/>
          <p:nvPr/>
        </p:nvSpPr>
        <p:spPr>
          <a:xfrm>
            <a:off x="4633920" y="3151080"/>
            <a:ext cx="2558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8250"/>
          <p:cNvSpPr/>
          <p:nvPr/>
        </p:nvSpPr>
        <p:spPr>
          <a:xfrm>
            <a:off x="576360" y="5186520"/>
            <a:ext cx="3011400" cy="54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8251"/>
          <p:cNvSpPr/>
          <p:nvPr/>
        </p:nvSpPr>
        <p:spPr>
          <a:xfrm>
            <a:off x="1346040" y="5873760"/>
            <a:ext cx="14907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8252"/>
          <p:cNvSpPr/>
          <p:nvPr/>
        </p:nvSpPr>
        <p:spPr>
          <a:xfrm>
            <a:off x="4346640" y="5043600"/>
            <a:ext cx="3011400" cy="54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8253"/>
          <p:cNvSpPr/>
          <p:nvPr/>
        </p:nvSpPr>
        <p:spPr>
          <a:xfrm>
            <a:off x="5332320" y="5773680"/>
            <a:ext cx="1522440" cy="54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图片 137217" descr=""/>
          <p:cNvPicPr/>
          <p:nvPr/>
        </p:nvPicPr>
        <p:blipFill>
          <a:blip r:embed="rId1"/>
          <a:stretch/>
        </p:blipFill>
        <p:spPr>
          <a:xfrm>
            <a:off x="311040" y="906480"/>
            <a:ext cx="8115480" cy="5476680"/>
          </a:xfrm>
          <a:prstGeom prst="rect">
            <a:avLst/>
          </a:prstGeom>
          <a:ln w="0">
            <a:noFill/>
          </a:ln>
        </p:spPr>
      </p:pic>
      <p:sp>
        <p:nvSpPr>
          <p:cNvPr id="1365" name="矩形 137218"/>
          <p:cNvSpPr/>
          <p:nvPr/>
        </p:nvSpPr>
        <p:spPr>
          <a:xfrm>
            <a:off x="7662960" y="22305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矩形 137219"/>
          <p:cNvSpPr/>
          <p:nvPr/>
        </p:nvSpPr>
        <p:spPr>
          <a:xfrm>
            <a:off x="7662960" y="47181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图片 136193" descr=""/>
          <p:cNvPicPr/>
          <p:nvPr/>
        </p:nvPicPr>
        <p:blipFill>
          <a:blip r:embed="rId1"/>
          <a:stretch/>
        </p:blipFill>
        <p:spPr>
          <a:xfrm>
            <a:off x="210960" y="777960"/>
            <a:ext cx="7934400" cy="6038640"/>
          </a:xfrm>
          <a:prstGeom prst="rect">
            <a:avLst/>
          </a:prstGeom>
          <a:ln w="0">
            <a:noFill/>
          </a:ln>
        </p:spPr>
      </p:pic>
      <p:sp>
        <p:nvSpPr>
          <p:cNvPr id="1368" name="矩形 136194"/>
          <p:cNvSpPr/>
          <p:nvPr/>
        </p:nvSpPr>
        <p:spPr>
          <a:xfrm>
            <a:off x="3749760" y="1500120"/>
            <a:ext cx="5349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6195"/>
          <p:cNvSpPr/>
          <p:nvPr/>
        </p:nvSpPr>
        <p:spPr>
          <a:xfrm>
            <a:off x="7068960" y="6288120"/>
            <a:ext cx="5353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0" name="图片 135169" descr=""/>
          <p:cNvPicPr/>
          <p:nvPr/>
        </p:nvPicPr>
        <p:blipFill>
          <a:blip r:embed="rId1"/>
          <a:stretch/>
        </p:blipFill>
        <p:spPr>
          <a:xfrm>
            <a:off x="166680" y="922320"/>
            <a:ext cx="7819920" cy="3514680"/>
          </a:xfrm>
          <a:prstGeom prst="rect">
            <a:avLst/>
          </a:prstGeom>
          <a:ln w="0">
            <a:noFill/>
          </a:ln>
        </p:spPr>
      </p:pic>
      <p:sp>
        <p:nvSpPr>
          <p:cNvPr id="1371" name="矩形 135170"/>
          <p:cNvSpPr/>
          <p:nvPr/>
        </p:nvSpPr>
        <p:spPr>
          <a:xfrm>
            <a:off x="770040" y="2752560"/>
            <a:ext cx="308268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5171"/>
          <p:cNvSpPr/>
          <p:nvPr/>
        </p:nvSpPr>
        <p:spPr>
          <a:xfrm>
            <a:off x="358920" y="3801960"/>
            <a:ext cx="308268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5172"/>
          <p:cNvSpPr/>
          <p:nvPr/>
        </p:nvSpPr>
        <p:spPr>
          <a:xfrm>
            <a:off x="4386240" y="2610000"/>
            <a:ext cx="3586320" cy="75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5173"/>
          <p:cNvSpPr/>
          <p:nvPr/>
        </p:nvSpPr>
        <p:spPr>
          <a:xfrm>
            <a:off x="5516640" y="3627360"/>
            <a:ext cx="1439640" cy="7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5" name="图片 134145" descr=""/>
          <p:cNvPicPr/>
          <p:nvPr/>
        </p:nvPicPr>
        <p:blipFill>
          <a:blip r:embed="rId1"/>
          <a:stretch/>
        </p:blipFill>
        <p:spPr>
          <a:xfrm>
            <a:off x="563400" y="927000"/>
            <a:ext cx="7382160" cy="2590920"/>
          </a:xfrm>
          <a:prstGeom prst="rect">
            <a:avLst/>
          </a:prstGeom>
          <a:ln w="0">
            <a:noFill/>
          </a:ln>
        </p:spPr>
      </p:pic>
      <p:sp>
        <p:nvSpPr>
          <p:cNvPr id="1376" name="矩形 134146"/>
          <p:cNvSpPr/>
          <p:nvPr/>
        </p:nvSpPr>
        <p:spPr>
          <a:xfrm>
            <a:off x="471600" y="1911240"/>
            <a:ext cx="366876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134147"/>
          <p:cNvSpPr/>
          <p:nvPr/>
        </p:nvSpPr>
        <p:spPr>
          <a:xfrm>
            <a:off x="1746360" y="2990880"/>
            <a:ext cx="10062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134148"/>
          <p:cNvSpPr/>
          <p:nvPr/>
        </p:nvSpPr>
        <p:spPr>
          <a:xfrm>
            <a:off x="4314960" y="2166840"/>
            <a:ext cx="3906720" cy="43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矩形 134149"/>
          <p:cNvSpPr/>
          <p:nvPr/>
        </p:nvSpPr>
        <p:spPr>
          <a:xfrm>
            <a:off x="5024520" y="2948040"/>
            <a:ext cx="2016000" cy="43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图片 133121" descr=""/>
          <p:cNvPicPr/>
          <p:nvPr/>
        </p:nvPicPr>
        <p:blipFill>
          <a:blip r:embed="rId1"/>
          <a:stretch/>
        </p:blipFill>
        <p:spPr>
          <a:xfrm>
            <a:off x="209520" y="890640"/>
            <a:ext cx="7962840" cy="2562120"/>
          </a:xfrm>
          <a:prstGeom prst="rect">
            <a:avLst/>
          </a:prstGeom>
          <a:ln w="0">
            <a:noFill/>
          </a:ln>
        </p:spPr>
      </p:pic>
      <p:pic>
        <p:nvPicPr>
          <p:cNvPr id="1381" name="图片 133122" descr=""/>
          <p:cNvPicPr/>
          <p:nvPr/>
        </p:nvPicPr>
        <p:blipFill>
          <a:blip r:embed="rId2"/>
          <a:stretch/>
        </p:blipFill>
        <p:spPr>
          <a:xfrm>
            <a:off x="808200" y="4027320"/>
            <a:ext cx="7476840" cy="2333880"/>
          </a:xfrm>
          <a:prstGeom prst="rect">
            <a:avLst/>
          </a:prstGeom>
          <a:ln w="0">
            <a:noFill/>
          </a:ln>
        </p:spPr>
      </p:pic>
      <p:sp>
        <p:nvSpPr>
          <p:cNvPr id="1382" name="矩形 133123"/>
          <p:cNvSpPr/>
          <p:nvPr/>
        </p:nvSpPr>
        <p:spPr>
          <a:xfrm>
            <a:off x="1273320" y="2579760"/>
            <a:ext cx="4943160" cy="80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33124"/>
          <p:cNvSpPr/>
          <p:nvPr/>
        </p:nvSpPr>
        <p:spPr>
          <a:xfrm>
            <a:off x="1252440" y="5240160"/>
            <a:ext cx="5405400" cy="4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133125"/>
          <p:cNvSpPr/>
          <p:nvPr/>
        </p:nvSpPr>
        <p:spPr>
          <a:xfrm>
            <a:off x="1293840" y="5877000"/>
            <a:ext cx="540540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30T08:26:21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